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8C24-8265-4ABE-8186-C8CDF4E10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737C-616D-4CDD-B613-DA9E0FD81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7867-6C5C-4CED-B2EC-94A2F004C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F545-425B-428D-A099-8AA63CC68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2DA49-891A-4E89-BE11-64035E1B9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DE295-510F-4F20-8D8B-B2FD927A6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1B43F-4300-459E-AD15-5CBB5A3BC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F59F9-5E6F-4A4D-B692-604C754B5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DE68F-7CB4-4D7A-BBE2-76A6324DE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D9A01-50A9-469E-B139-3F6AC5838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AE2D3-DD14-4864-8D47-4372C90D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87D9-85A8-4F85-BFC5-F4BE11A7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12296-4370-427C-84C5-218040E1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BC3EA-55EB-440E-BBBD-CB7C8D5A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2CD0B-5A99-4665-9D73-2B2306988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63EF8-A4D5-407C-AFFE-02A549972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A2F8B-A84F-4D2F-B932-55BEE619F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3A0A-3B0F-4470-BA88-AB5A82E28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05C2-A0E2-466B-96F1-6CA12846E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5787-FB5E-40FD-9775-3F3AF50F1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21F2-EA54-4923-BB60-2EBB64CD4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7154-F425-4EF9-8830-7F5F3931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3241-D827-42C1-BFCE-076805A7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84E4-6DC8-4309-B0DE-B025E45F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92C08-944C-49A8-8B60-4959F0218C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D703A-A46C-48E0-A8E4-079034175E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Ecology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600200" y="1219320"/>
            <a:ext cx="5943600" cy="403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abitat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e place in which an organism live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vides the kinds of food and shelter, the temperature, and the amount of moisture the organism needs to surviv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50468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peti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ace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peti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petition caused by population growth affects many organisms, including human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mits population siz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46748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imiting Factor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ything that restricts the number of individuals in a population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cludes living and nonliving features of the ecosystem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91520" cy="52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uccess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tural, gradual changes in the types of species that live in an area; can be primary or secondary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mary – begins in a place without so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ary – where soil already ex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62120" y="1122480"/>
            <a:ext cx="792468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The study of the interactions that take place among organisms and their environment 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57200" y="960480"/>
            <a:ext cx="807732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imary Success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035160" y="1371600"/>
            <a:ext cx="3770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econdary Success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4684680" cy="45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ioneer speci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group of organisms, such as lichens, found in the primary stage of succession and that begin an area's soil-building proces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066680" y="836640"/>
            <a:ext cx="7315200" cy="54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max communi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community that has reached a stable stage of ecological succession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7924680" cy="52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iom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rge geographic areas with similar climates and ecosyste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80880" y="560520"/>
            <a:ext cx="8382240" cy="57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clud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464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undr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aig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ser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mperate deciduous fore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mperate rain fore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opical rain forest, and grassland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iosphere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art of Earth that supports lif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p portion of Earth's cru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the waters that cover Earth's surf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tmosphere that surrounds Earth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78204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cosystem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l the organisms living in an area and the nonliving features of their environ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33520" y="399960"/>
            <a:ext cx="800100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pula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l the organisms in an ecosystem that belong to the same specie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62120" y="880920"/>
            <a:ext cx="7619760" cy="50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muni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l the populations in an ecosyste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5T18:12:26Z</dcterms:created>
  <dc:creator>TMLDR_POARCH</dc:creator>
  <dc:description/>
  <dc:language>en-US</dc:language>
  <cp:lastModifiedBy>Mary Poarch</cp:lastModifiedBy>
  <dcterms:modified xsi:type="dcterms:W3CDTF">2004-03-18T19:21:42Z</dcterms:modified>
  <cp:revision>30</cp:revision>
  <dc:subject/>
  <dc:title>Ecology</dc:title>
</cp:coreProperties>
</file>